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274B-8354-4822-8487-B76866A6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1D61-B59A-4462-8A6F-0D6A8E47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8377-3063-4C93-9614-62A6ADB0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C6F9-2C80-4EF4-A4D5-F5B59276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5017-22D0-49AF-8462-D0ADE4CA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2B67-1C39-45A0-BB96-584E21D7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E161-D769-49EA-AB1E-2BE43137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AD91-E475-4A95-92EE-AD2930A8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750E-726B-40EB-BA1F-B4059C40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6D00-E379-4354-ABF1-1ADF1020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0A42-94CB-4B0D-A10C-80F44F86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174F-48FA-4575-B011-FCD996B6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B779-1659-45D5-85E6-8092A5228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M-UP 11/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l me one thing you already know about Egypt.  On which continent is it loca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work: N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en Sheets: Intro to Egy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fts of the N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dictable floods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s it easier to plan out fa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ck black mu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of nutrients for healthy so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pyru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ype of plant that can be used for paper, baskets, sandals, even boat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sh, geese, ducks, plants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od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FTS OF THE M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Gift_of_the_Nile.asf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on Uses of the N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The_Uses_of_the_Nile_in_Ancient_Egypt.asf" descr=""/>
          <p:cNvPicPr/>
          <p:nvPr/>
        </p:nvPicPr>
        <p:blipFill>
          <a:blip r:embed="rId1"/>
          <a:stretch/>
        </p:blipFill>
        <p:spPr>
          <a:xfrm>
            <a:off x="695160" y="1219320"/>
            <a:ext cx="806796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facts about the N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_____________, which are short stretches of rap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s at the Nile Delta, which is a triangle-shaped deposit of soil at the end…this is where the best farmland 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ile Del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250px-Nile_Delta_-_Naucratis.png"/>
          <p:cNvPicPr/>
          <p:nvPr/>
        </p:nvPicPr>
        <p:blipFill>
          <a:blip r:embed="rId1"/>
          <a:stretch/>
        </p:blipFill>
        <p:spPr>
          <a:xfrm>
            <a:off x="1676520" y="1263600"/>
            <a:ext cx="563868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gypt Was Divided in Hal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o Upper Egypt, and Lower Egy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amous Upper Egypt King, _________, united both places into one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383.jpg"/>
          <p:cNvPicPr/>
          <p:nvPr/>
        </p:nvPicPr>
        <p:blipFill>
          <a:blip r:embed="rId1"/>
          <a:stretch/>
        </p:blipFill>
        <p:spPr>
          <a:xfrm>
            <a:off x="6248520" y="3962520"/>
            <a:ext cx="1885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nes Unites Egy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hraoah_Menes_Unites_Egypt.asf" descr=""/>
          <p:cNvPicPr/>
          <p:nvPr/>
        </p:nvPicPr>
        <p:blipFill>
          <a:blip r:embed="rId1"/>
          <a:stretch/>
        </p:blipFill>
        <p:spPr>
          <a:xfrm>
            <a:off x="1371600" y="146196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Egypt Was More Peaceful Than Mesopota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ing together was important to survi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ing one united nation made more s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ree on having the pharaoh as their one l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gypt: The World’s First United 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The_Birth_of_a_Nation.asf" descr=""/>
          <p:cNvPicPr/>
          <p:nvPr/>
        </p:nvPicPr>
        <p:blipFill>
          <a:blip r:embed="rId1"/>
          <a:stretch/>
        </p:blipFill>
        <p:spPr>
          <a:xfrm>
            <a:off x="1254240" y="1600200"/>
            <a:ext cx="705168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happened to Men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ten by a Hippo while on a hunting tr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n takes over, followed by his so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began the world’s first 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gyptian Reli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lief in the after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lieves in many gods (polythe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lieve that the body needs to be preserved as a house for the so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er worshipped kings as g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gyptian 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d a system called HIEROGLYPH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torial symbols stand for words or s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up of over 700 different symb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Hieroglyphics.asf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3915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M-UP 11/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why Egyptians were happy with being a united nation under one rul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en Sheets 11/18:  No Up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out vocab list, have in front of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work: None. Bring colored pencils to class tomorr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GYPT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ry located in 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gypt’s lifeline is the ____________; without it, Egypt would have never been able to surv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GY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5" descr="egypt-political-map.jpg"/>
          <p:cNvPicPr/>
          <p:nvPr/>
        </p:nvPicPr>
        <p:blipFill>
          <a:blip r:embed="rId1"/>
          <a:stretch/>
        </p:blipFill>
        <p:spPr>
          <a:xfrm>
            <a:off x="1371600" y="1263600"/>
            <a:ext cx="655308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ile River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est river in the world: 4, 000 m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s from_____________to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ngth of the N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The_Path_of_the_Nile__.asf" descr=""/>
          <p:cNvPicPr/>
          <p:nvPr/>
        </p:nvPicPr>
        <p:blipFill>
          <a:blip r:embed="rId1"/>
          <a:stretch/>
        </p:blipFill>
        <p:spPr>
          <a:xfrm>
            <a:off x="946080" y="1143000"/>
            <a:ext cx="743580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h of the N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he_Path_of_the_Nile__.asf" descr=""/>
          <p:cNvPicPr/>
          <p:nvPr/>
        </p:nvPicPr>
        <p:blipFill>
          <a:blip r:embed="rId1"/>
          <a:stretch/>
        </p:blipFill>
        <p:spPr>
          <a:xfrm>
            <a:off x="844560" y="1066680"/>
            <a:ext cx="753732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The_Nile__Where_Egypt_Began.asf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6201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3:28:38Z</dcterms:created>
  <dc:creator>tech</dc:creator>
  <dc:description/>
  <dc:language>en-US</dc:language>
  <cp:lastModifiedBy>tech</cp:lastModifiedBy>
  <dcterms:modified xsi:type="dcterms:W3CDTF">2011-11-07T19:24:58Z</dcterms:modified>
  <cp:revision>135</cp:revision>
  <dc:subject/>
  <dc:title>Slide 1</dc:title>
</cp:coreProperties>
</file>